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7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3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41.jpeg" ContentType="image/jpeg"/>
  <Override PartName="/ppt/media/image3.wmf" ContentType="image/x-wmf"/>
  <Override PartName="/ppt/media/image26.wmf" ContentType="image/x-wmf"/>
  <Override PartName="/ppt/media/image14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8950-237F-470E-9051-FC06AC01C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E24-0104-40BF-8E2C-9C887328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555-E21C-4A17-9281-2E92776B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BEF-3FED-415A-8CF1-429B9F43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E10-17DE-4C1A-8560-1BC43FE4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4B8-6B1E-4675-AD10-43A4588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CC1-EA70-444E-908D-DC2CC1B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36D-B745-42B8-B475-F12BC35C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CA7-9EAD-4405-B237-0FE825B3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6E5-47F6-4615-BAF3-7E53D156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426-3AA2-4C31-BEDF-D3C7A9E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097-154B-4EB5-95CE-2372A65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79F-963A-4FB7-B323-EBF4132D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F7F4-7F95-4D0F-9C8E-2E5B3007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ie Brannan et Katie Tr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9112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183204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057400" y="5045040"/>
            <a:ext cx="1709640" cy="181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1606680" cy="125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14720" cy="221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0" y="5299200"/>
            <a:ext cx="1671480" cy="155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550280" y="1905120"/>
            <a:ext cx="15937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7116840" y="3886200"/>
            <a:ext cx="202716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6705720" y="0"/>
            <a:ext cx="2120760" cy="167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6172200" y="5943600"/>
            <a:ext cx="89388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ltat d’action de presser/de com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1906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3116160" cy="1733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00200" y="4724280"/>
            <a:ext cx="1585800" cy="169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315200" y="3581280"/>
            <a:ext cx="1387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Incarné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3133440" cy="313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nu chair, en parlant d'une divin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églementation 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des règles et lois qui concernent un do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814400" cy="147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217944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700280" cy="163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172200" y="3809880"/>
            <a:ext cx="24242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Trottoi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surélevée d'une voie urbaine destinée à la circulation des piéton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413160" cy="220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77120" y="2819520"/>
            <a:ext cx="2158920" cy="2222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18194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TIC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66880" y="2311560"/>
            <a:ext cx="39625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Où est-ce que l’interdiction de fumer peut appliqu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ut de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ut d’O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ut de Colling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ut de centre-ville de Colling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Pourquoi Collingwood veut cette nouvelle inter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rce que trop des gens avaient le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rce que les citoyens n’aiment pas les fum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rce que Collingwood fait la promotion de santé pour les citoy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rce que Collingwood est une ville qui est santé tout le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etit 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1606680" cy="125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436840" cy="1681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1847880" cy="122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8288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Où est-ce qu’on ne peut pas fumer maintenan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l’extérieur des restaurants, aux parcs, et aux terrains spor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restaurants, les parcs, et les bibiliothe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supermarchés, les restaurants, et les caf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la plage, aux terrains sportifs et aux par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Qu’est-ce que Colllingwood ne peut pas f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 qu’on ne peut pas fumer aux parcs, et aux terrains spor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 qu’on ne peut pas fumer dans le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r l’interdiction de fumer dans le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r l’interdiction de fumer aux parcs et aux terrains sporti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i Collingwood a l’interdic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pourra pas fumer dans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pourra pas fumer sur les trotto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ourra fumer dans la 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pourra pas fumer dans la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ans Les Group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pensez du tabac et des fumeurs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’il y a des problemes si on fume beauc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le gouvernement peut faire pour reduire l’usage de taba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31 mai: Jour Mondiale Sans T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hème: Lutte AntiT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ger votre famille et vos am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être antit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r les jeunes éviter le t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r les personnes qui veulent qu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ire la fumée second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: Ville de Timmins–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t: Orillia, Barrie, Collingwood, Wasaga Beac, Sault Ste Marie, Thunder Bay,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5905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Interdiction 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cte d'interdire, d'empêcher, de proh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0160" y="2886120"/>
            <a:ext cx="3963960" cy="37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32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2320" y="2971800"/>
            <a:ext cx="1982880" cy="195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161120" y="3762360"/>
            <a:ext cx="1982880" cy="19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715000" y="4905360"/>
            <a:ext cx="19828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Militer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attre lutter, pour une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1930680" cy="1571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4724280"/>
            <a:ext cx="1828800" cy="178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24080" y="4495680"/>
            <a:ext cx="2832120" cy="211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905120" y="3124080"/>
            <a:ext cx="1761840" cy="134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20001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Pression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2:21:26Z</dcterms:created>
  <dc:creator>Quy</dc:creator>
  <dc:description/>
  <dc:language>en-US</dc:language>
  <cp:lastModifiedBy>Quy</cp:lastModifiedBy>
  <dcterms:modified xsi:type="dcterms:W3CDTF">2011-09-09T22:22:26Z</dcterms:modified>
  <cp:revision>16</cp:revision>
  <dc:subject/>
  <dc:title>Fumer</dc:title>
</cp:coreProperties>
</file>